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4814-F732-426B-AC8B-2293F243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8B45-6CD7-4C41-B93F-18409DC9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227C-AACF-4D4C-863F-88C931DA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D5C0-DBF1-4841-95C3-B5CCB6A0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F4D-2985-454E-A13D-7C4A8F1C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6303-1C61-4FEE-A09C-E1962A6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F52-0DD4-48D6-8871-A95D9F5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F119-E07F-4203-9F09-A2769A0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922-3F48-4DB0-A76C-852161E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7361-B15D-4339-B77C-69DC8EB6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8657-B1FE-450A-B4F8-C0EDB48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AF2A-A36D-480E-B3C4-00EF65A6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9F5-B11E-4EF5-B652-7A9F702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DBF-C1D5-4288-B810-C4ECD35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7212-A94B-4C84-944B-3E14524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FDA2-E90A-42C9-B7A9-4B8D492E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360F-48B3-494B-98A4-4F703BFB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35AF-DA44-49D8-8A08-705378E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7418-E412-43C5-9F5C-92C227E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2BC8-5427-40FC-8AC9-D4BA05C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E01E-7A2E-4276-9A55-ACFFF13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BAEE-017A-4024-B848-6A71D7F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E168-2B04-497B-B26A-7EB474E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FD17-D108-46DC-AB45-715AD82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318-216E-47F4-9803-7342BF77D07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F3F-F29C-406E-9499-6FEA3956341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655200"/>
            <a:ext cx="1127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0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животворен Дух Све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ез в нашите душ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От грях и зло ни защи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любов ни утеши! (3)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86600" y="222660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сяка светска суе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 ни отклон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оди ни в пътя на Хрис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и благослови! (3)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96160" y="1777680"/>
            <a:ext cx="80373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любов небесна разпал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удените сърц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ърни Ти вси изгубе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ново при Отца! (3)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29120" y="1777680"/>
            <a:ext cx="83682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пълвай с ценни добри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 и умове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Премахвай всички ни зли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ежки грехове! (3)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90480" y="1525320"/>
            <a:ext cx="7845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, всели се Ти у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слава н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Ще слушаме ние Твоя гл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път към вечността! (3)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7T08:10:26Z</dcterms:modified>
  <cp:revision>9</cp:revision>
  <dc:subject/>
  <dc:title>Slide 1</dc:title>
</cp:coreProperties>
</file>